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BE6-9706-4F55-8E2F-D1BE877C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18B-9669-4DEC-8571-F8E41AF4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1FE-E1AC-463E-8B5B-F9A6FCD0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3E1-780B-4635-B8C7-F0045AC8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C8C-351E-42CB-AFB5-B4F63B2B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A5B-76C9-4D21-A328-4B5F9F9A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1B9-1264-4D66-8296-CB6E3C7E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077-DB06-44DD-8321-31E8AF58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11B-0C7D-4EC0-864A-A3BC6B60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B87-26DA-45D9-8C26-1405976F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66D-0648-4FC4-8B0F-896BF23C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E3B-CB92-4729-A37C-8359108A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7A03-7DB4-4234-8618-C16F76586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59360" cy="1719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2590920"/>
            <a:ext cx="3267360" cy="314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8960" y="21700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6720" y="3313080"/>
            <a:ext cx="232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ic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58640" y="329076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letter that represents a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200" y="4191120"/>
            <a:ext cx="50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mathematical phrase with atleast on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9246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458200" cy="72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5120" y="20574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205740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29600" y="20574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4920" y="2649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2835000" cy="34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7925040" cy="2779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05720" y="2057400"/>
            <a:ext cx="17524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305920" cy="957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26668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2590920"/>
            <a:ext cx="8384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229600" cy="1208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617220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0773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9:10:57Z</dcterms:created>
  <dc:creator>grahams</dc:creator>
  <dc:description/>
  <dc:language>en-US</dc:language>
  <cp:lastModifiedBy>grahams</cp:lastModifiedBy>
  <dcterms:modified xsi:type="dcterms:W3CDTF">2011-10-21T19:11:28Z</dcterms:modified>
  <cp:revision>1</cp:revision>
  <dc:subject/>
  <dc:title>Slide 1</dc:title>
</cp:coreProperties>
</file>